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E89-B8E3-4353-B3E1-5430B0DE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D77-91F6-460C-A6AF-26EC740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CF5-EF30-4626-A87C-1B575ADF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8A6-65FC-4E06-A57B-5C7A943E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F3B-46D3-4A50-A9EB-576D9E3F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EB4-18E6-4A1D-8D41-140E526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3D7-9133-454A-B454-1EBD7BB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E97-9C06-4716-AE54-A55919FD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1A6-77AD-4FF3-8691-03244D1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F35-9EBD-4A1C-9809-D4EBCA5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162-22FE-4BB8-B758-C928099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D22-F08B-4460-9AF1-1D11224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F3E0-20AD-43AB-9C90-A3A0AB3DA7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30120"/>
            <a:ext cx="82440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Хамилтонова скала за процену депресивности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Hamilton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Depression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Rating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Scale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HAM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6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1396800" cy="168264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  <p:pic>
        <p:nvPicPr>
          <p:cNvPr id="43" name="Picture 174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1595520" cy="99036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9. Агитац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“занима” се рукама, крши руке, ломи нокт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података о агитацији, нити је запаж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ало врпољења током интервуја, лупкање прстима,  играње ставр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чигледан немир, помера се у столици, пипка се по рукама и одећи, кршење ру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цијент мора да устаје током интервју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цијент хода горе- доле, чупа косу и одећу, помера ствари ит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0. Психичка анксиоз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напетост, иритабилност, забринутост. Уплашено ишчекивање и страх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жал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исутна само у одговору на директно питање; јавља се као благо и ретко осећање тешкоће, забринутости, нервозе, напетости; тенденција да се провише брине и око ситница и/или умерена анксиозност у специфичним ситу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 нервозу, тензију, несигурност; дуготрајна узнемиреност и/или напади акутне анксиозности у специфичним ситу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ње “узнемирености”, “уплашености”, највећи део времена и/или чести напади акутне анскиоз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зражена- осећање континуираног страха због очекивања губитка, напуштања, онеспособљености, до искључења других менталних садржаја, стање па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1. Соматска анксиоз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физиолошки корелати, као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астроинтестинални, кардиоваскуларни,            респираторни, уринарни, зној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0.   Не жали с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лага и ретка, не утиче на дневне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мерена и чешћи атаци соматске анксиоз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ње или више континуирано осећање болести, са симптомима који ометају спавање и дневну рут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неспособљавајући симпто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2.  Соматски гастроинтестиналн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губитак апет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Уопште се не жа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Смањен апетит. Балго промењена фреквенца дефек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Губитак апетита. Изражена опстипаци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3. Општи соматск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ај тежине, болови, губитак енергије, лака заморљив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ма симпто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Благе до умерене жалбе, нису онеспособљавајуће, али ометајућ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Изражене тегобе, утичу на активност, чак и онеспособљавај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4. Гениталн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губитак либида, поремећај менструалног циклу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 жали се или неадекватне информ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смањење интересовања, реаговања и учесталости сексуалне актив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Комплетан губитак иницијативе и реаговања или актуелно нерасположење за то. Аменореа, у одсуству “ендокриних” узро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5. Хипохондр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преокупација здрављем, захтеви за помоћ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хипохондричне суманутости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00" y="1571400"/>
            <a:ext cx="8715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жалби или само кад се питање директно односи на телесно здрав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понтане мале жалбе, превелика забринутост за телесно здрав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Значајна преокупација за телесно здравље (хипохондријски став); телесни симптоми су главна жалба и тема, мисли о органском обоље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онцентрисан на телесне симптоме, континуирано се жали и тражи помоћ, “канцерофобија”, “сифилидофобија”, итд. Убеђен да је органски болест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уманутости, обично са бизарним жалбама и израженом анксиозношћу, страхом од безнађа, са очекивањем претеће смрти или озбиљног онеспособља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6. Губитак телесне масе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) пер анамнесис                      б) мере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Не жали се на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Мали или несигурни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чигледан, изражен, објективно утврђен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7. Способност увиђањ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прихвата да је депресиван и болестан, пориче да је депресив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Признаје да је депресиван и “ментално” болестан (слом живаца итд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ризнаје да је нервозан због свог стања, али мисли да је то због телесног стањ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риче да је било шта лоше с његовим психичким функционисањем. Сматра себе само телесно болесни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8. Дневне варијације расположења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симптоми најизраженији ујутру и увеч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Нема утврђеног правила флуктуације током д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ке индикације о дневним варијација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лошије ујутру, увече или поподне, него у неко друго доба д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Garamond"/>
              </a:rPr>
              <a:t>Настанак и апликативност ска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Конструисан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1960. године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(Хамилтон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Потреба з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стандардизовањем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феноменологије депресивног синдрома и процене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степена изражености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депресивног поремећ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Незаобилазни инструмент у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клиничким, фармаколошким испитивањима, као и у рутинском ра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9. Деперсонализација и дереализац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ење нестварности, нихилистичке идеје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ма деперсонализације и дереализ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јасно осећање сопствене промен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и стално осећање нереал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20. Параноид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сумњичавост, идеје односа, суманутости прогањ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3840" y="1785960"/>
            <a:ext cx="8929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 Нема знакова абнормалне сумњичав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амосвесност; недостатак поверења у друге, неодређене идеје утицаја, тенденција за оптуживањем других људи, да му се смеју, радње прозив њега у обичним ситницама итд. Реагује на разуме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раноидни став, идеје односа и/или прогањања, неодређене и несистематизоване суманутости или мисли да му други желе з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ктивне и афективно испуњене параноидне суманутости, донекле систематизовано сумануто расположење. Убеђен да му други желе з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Флоридан, активно елабориран, параноидно- суманут систем, интензивно сумануто расположење, халуцин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00000"/>
                </a:solidFill>
                <a:latin typeface="Garamond"/>
              </a:rPr>
              <a:t>21. Опсесивно 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Garamond"/>
              </a:rPr>
              <a:t>- компулсивни симпто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Нема опсесивних ни компулсивних симпто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сигурни или ретки, нема значајне анксиоз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присутни и изазивају анксиознос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кор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Верзија с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21. ајтемом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&gt;24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- изражена депресивност, хоспитализовани болесниц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17- 24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- умерена депресивност, болесници лечени у ванболничким услов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&lt;8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- депресивност није </a:t>
            </a:r>
            <a:r>
              <a:rPr b="0" lang="sr-RS" sz="3000" spc="-1" strike="noStrike">
                <a:solidFill>
                  <a:srgbClr val="000000"/>
                </a:solidFill>
                <a:latin typeface="Garamond"/>
              </a:rPr>
              <a:t>опсервир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. Депримира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туга, безнађе, беспомоћност, безвред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0.   Нема непријатних осећања, нити знакова депрес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Пролазно осећање туге/бриге. Нема видљивих знакова депресије. Жали се на недостатак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Изгледа депресивно, осећа се мизерно, беспомоћно. Изражава песимизам и друге депресивне садржаје/повремене идеје о самоубиству, лоше функционис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Физички знаци депресије обично са нешто ретардације или агитације, доминирају осећање безнађа, депресивни садржаји, суицидалне иде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Первазивна изражена депресија са значајним физичким знацима депресије; депресивне суманутости, преокупираност смрћу, смоубиством. Ступор или агитација; аутодеструктивно понаша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2. Осећање кривиц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самоотпуживање, идеје кривице и/или казне, суманутости кривице, оптужујући и показујући гласови (халуцинације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207144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 прекорева себе ни за ш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ање жаљење због ранијег понашања; не елаборира; тенденција да себе криви за тривијалне ствари; осећање самопрекоре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ња кривице, смооваловажавање или самопрекоревање, размишљања о грешкама или грешним поступц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Верује да је болест казна. Суманутост кривице, грех, злочина и/или казне, доминирају мисаоним садржајем и понашањ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Чује оптужујуће или осуђујуће гласове и/или доживљава застрашујуће визуелне халуцинациј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3. Суицид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доживљај безвредности живота, суицидалне идеје или покушаји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2143080"/>
            <a:ext cx="8715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Ужива у животу, прихвата ствари онаквим какве јесу, нема  идеја о самоповређива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Уморан од живота, осећа да није вредно живети. Само пролазне сиуцидалне ми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ејасна суицидалне идеје и жеља да је мртав. Сматра суицид могућом солуцијом. Осећа да би било много боље да је мрт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Честе суицидалне мисли. Има суицидалне планове, било је неодлучних покуша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Јасни планови, активне припреме и/или озбиљни покуша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Garamond"/>
              </a:rPr>
              <a:t>4 - 6. Нес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4.  Рана инсомин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тешкоће уснивањ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5.   Инсомнија током ноћ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исцрпљујуће спавање, поремећен сан, буђење током ноћ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6. Касна инсомниј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рано буђењ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0.    Нема проблема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Благи и ретки проблеми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Чести и узнемирујући проблеми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7. Рад и активнос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ање неспособности, замора или слабост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убитак интересовања, редукција актив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1857240"/>
            <a:ext cx="871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Држи се нормално. Нема губитка инетересовања, нема редукције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Хладан, резервисан, неспонтан, алко се досађује. Брига о себи и радне активности једва захваћени. Мисли и осећање неспособности односе се на актив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 дневне задатке као терет. Ради само оно што је неопходно. Занемарује се. Равнодушан, тешко доноси одлуке. Мора да се на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 је напор, многи задаци остају неурађени. Мало активности у слободно време. Брига о себи му је маргинална. У болници не проводи ни три сата у активностима (рад у болници или хобији, посебни послови на овдељењ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8. Ретардациј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успореност мишљења или говора, поремећај концентрације, снижена моторна активнос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2071440"/>
            <a:ext cx="86439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Не даје поадтке о проблемима концентрације или извођења радњ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мањена психомоторна кативност, укоченост израза лица. Признаје повремена успорења, инактивност и недостатак свести о окол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нотон глас, спор у одговарању на питања, седи скоро без покрета. Одговори и даље адекват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рвју екстремно продужен. Дуге паузе, изостајање одговора, неадекватни одгов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рвју је немогу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3:13:11Z</dcterms:created>
  <dc:creator>milica borovcanin</dc:creator>
  <dc:description/>
  <dc:language>en-US</dc:language>
  <cp:lastModifiedBy>Korisnik</cp:lastModifiedBy>
  <dcterms:modified xsi:type="dcterms:W3CDTF">2019-10-06T05:14:36Z</dcterms:modified>
  <cp:revision>8</cp:revision>
  <dc:subject/>
  <dc:title>Hamiltonova skala za procenu depresivnosti - Hamilton Depression Rating Scale (HAM-D)</dc:title>
</cp:coreProperties>
</file>